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3647B-61E3-49C8-B7DD-E1149638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0A95-3B2E-46BC-A758-FDCAFD32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336FC-0101-4C74-897E-64DB9A5DA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102BC-1E8D-42BC-94FB-2529811D0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CD303-70CC-4765-B9D0-1D3257743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304C-AAB7-4E74-B784-BEDE1D8E6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64FB7-ED05-45A5-B674-76054E64A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3628A-8551-44A1-9DDE-5E6B2171B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1A5E8-2196-40ED-AC71-9897A83EA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6C979-05B6-414C-BC13-A959A04D2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F3A37-270D-4AC8-9589-A36FC6F61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CE796-D48B-49C6-850D-C5B3FD3F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64E81-134E-468F-85B2-E2F922E77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32B1E-53D5-48CE-AE72-CD644A35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CF7D-F7EC-4F69-BB48-EF7A8D739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8ACFB-05D5-442F-B095-FE1D5ADAE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A2F20-76EB-4503-BB65-EF645B3F5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F1B3-E74B-4E7A-8C6C-B62ED8B6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DBDA-EBBA-40B0-96FF-C60D810A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C6B9-AE96-49D2-95DE-BC5DE28C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80EF-9FB6-4E77-A6BB-6F5DB840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BFD9-38C1-426C-ABDD-0A46FA55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7101-F602-42CC-A19F-9DB14857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7230-894B-4351-BB8F-A34D1A37A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ACB0-5580-4D55-9BF3-A3E82DB289FC}"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6616-B8DF-4E4E-ABE8-0874E8A3555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Lucida Grande"/>
              </a:rPr>
              <a:t>Windows Movie Maker</a:t>
            </a:r>
            <a:r>
              <a:rPr b="0" lang="en-US" sz="3200" spc="-1" strike="noStrike">
                <a:solidFill>
                  <a:srgbClr val="5d2204"/>
                </a:solidFill>
                <a:latin typeface="Arial"/>
              </a:rPr>
              <a:t> </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27432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endParaRPr b="0" lang="en-US" sz="2400" spc="-1" strike="noStrike">
              <a:solidFill>
                <a:srgbClr val="212164"/>
              </a:solidFill>
              <a:latin typeface="Arial"/>
            </a:endParaRPr>
          </a:p>
          <a:p>
            <a:pPr marL="27432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Windows Movie Maker?</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Windows Movie Maker to tell a stor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save a movie projec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a:t>
            </a:r>
            <a:r>
              <a:rPr b="0" lang="en-US" sz="2400" spc="-1" strike="noStrike">
                <a:solidFill>
                  <a:srgbClr val="212164"/>
                </a:solidFill>
                <a:latin typeface="Lucida Grande"/>
              </a:rPr>
              <a:t>Windows Movie Maker</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 this lesson)</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 (and additional software to import movi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s skill will focus on:</a:t>
            </a:r>
            <a:endParaRPr b="0" lang="en-US" sz="28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importing digital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editing digital video (trim clips, split clips, and add clips to the timelin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movie project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Lucida Grande"/>
              </a:rPr>
              <a:t>(see the tutorial for lesson 1 for specific directions)</a:t>
            </a:r>
            <a:endParaRPr b="0" lang="en-US" sz="2400" spc="-1" strike="noStrike">
              <a:solidFill>
                <a:srgbClr val="212164"/>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a:t>
            </a:r>
            <a:r>
              <a:rPr b="0" lang="en-US" sz="2400" spc="-1" strike="noStrike">
                <a:solidFill>
                  <a:srgbClr val="212164"/>
                </a:solidFill>
                <a:latin typeface="Lucida Grande"/>
              </a:rPr>
              <a:t>Windows Movie Maker</a:t>
            </a:r>
            <a:r>
              <a:rPr b="0" lang="en-US" sz="2400" spc="-1" strike="noStrike">
                <a:solidFill>
                  <a:srgbClr val="212164"/>
                </a:solidFill>
                <a:latin typeface="Arial"/>
              </a:rPr>
              <a:t>.</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a:t>
            </a:r>
            <a:r>
              <a:rPr b="0" lang="en-US" sz="2400" spc="-1" strike="noStrike">
                <a:solidFill>
                  <a:srgbClr val="212164"/>
                </a:solidFill>
                <a:latin typeface="Lucida Grande"/>
              </a:rPr>
              <a:t>Windows Movie Maker</a:t>
            </a:r>
            <a:r>
              <a:rPr b="0" lang="en-US" sz="2400" spc="-1" strike="noStrike">
                <a:solidFill>
                  <a:srgbClr val="212164"/>
                </a:solidFill>
                <a:latin typeface="Arial"/>
              </a:rPr>
              <a:t>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3-06T17:09:18Z</dcterms:modified>
  <cp:revision>39</cp:revision>
  <dc:subject/>
  <dc:title>Workshop Title</dc:title>
</cp:coreProperties>
</file>